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apbig0g.wav" ContentType="audio/x-wav"/>
  <Override PartName="/ppt/media/bserie06.wav" ContentType="audio/x-wav"/>
  <Override PartName="/ppt/media/jetflyby2.wav" ContentType="audio/x-wav"/>
  <Override PartName="/ppt/media/highchime.wav" ContentType="audio/x-wav"/>
  <Override PartName="/ppt/media/meepmeep.wav" ContentType="audio/x-wav"/>
  <Override PartName="/ppt/media/caralarmoff.wav" ContentType="audio/x-wav"/>
  <Override PartName="/ppt/media/lzipup01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E3FD-C739-4EE5-8B36-405EEB72F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0224-1481-438D-BBA2-084CCC8C8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E323-8248-4881-AA9E-1ECB5FF3E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2038-CF2D-4EA4-80EE-E94A9D018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F67A-8DD3-485D-AE0B-C35135A04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54BA-00D1-4137-842C-0E7811FA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3871-23F3-4929-8BE2-1F5F67A10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BFFB-1133-4DC6-B842-740227672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BEDD-020C-4D09-BE26-5FA8BE01E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F09F-5ABF-4680-86CB-D1631199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3AA4-2EF4-4DDE-B73D-F249B799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4591-1762-4585-9A87-175CAE89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52A30-9979-4B5B-91C5-46C139DC1A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audio" Target="../media/bserie06.wav"/><Relationship Id="rId6" Type="http://schemas.openxmlformats.org/officeDocument/2006/relationships/audio" Target="../media/jetflyby2.wav"/><Relationship Id="rId7" Type="http://schemas.openxmlformats.org/officeDocument/2006/relationships/audio" Target="../media/jetflyby2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jetflyby2.wav"/><Relationship Id="rId4" Type="http://schemas.openxmlformats.org/officeDocument/2006/relationships/audio" Target="../media/bserie06.wav"/><Relationship Id="rId5" Type="http://schemas.openxmlformats.org/officeDocument/2006/relationships/audio" Target="../media/jetflyby2.wav"/><Relationship Id="rId6" Type="http://schemas.openxmlformats.org/officeDocument/2006/relationships/audio" Target="../media/bserie06.wav"/><Relationship Id="rId7" Type="http://schemas.openxmlformats.org/officeDocument/2006/relationships/audio" Target="../media/jetflyby2.wav"/><Relationship Id="rId8" Type="http://schemas.openxmlformats.org/officeDocument/2006/relationships/audio" Target="../media/bserie06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zapbig0g.wav"/><Relationship Id="rId3" Type="http://schemas.openxmlformats.org/officeDocument/2006/relationships/audio" Target="../media/zapbig0g.wav"/><Relationship Id="rId4" Type="http://schemas.openxmlformats.org/officeDocument/2006/relationships/audio" Target="../media/zapbig0g.wav"/><Relationship Id="rId5" Type="http://schemas.openxmlformats.org/officeDocument/2006/relationships/audio" Target="../media/zapbig0g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meepmeep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bserie06.wav"/><Relationship Id="rId9" Type="http://schemas.openxmlformats.org/officeDocument/2006/relationships/audio" Target="../media/caralarmoff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1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Name the variabl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434880" y="1450800"/>
                <a:ext cx="27813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s</m:t>
                    </m:r>
                    <m:r>
                      <m:t xml:space="preserve">−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1271520" y="2314440"/>
                <a:ext cx="52704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592280" y="2255760"/>
                <a:ext cx="12636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4005360" y="1455840"/>
                <a:ext cx="282564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4881600" y="2306520"/>
                <a:ext cx="57924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5326200" y="2320920"/>
                <a:ext cx="14745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1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Complet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461880" y="1352520"/>
                <a:ext cx="4664160" cy="8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___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4243320" y="1506600"/>
                <a:ext cx="57960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453960" y="2630520"/>
                <a:ext cx="457524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___</m:t>
                    </m:r>
                    <m:r>
                      <m:t xml:space="preserve">⋅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3675240" y="2587680"/>
                <a:ext cx="52704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538200" y="3479760"/>
                <a:ext cx="3813120" cy="16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___</m:t>
                    </m:r>
                    <m:r>
                      <m:t xml:space="preserve">÷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622600" y="3840120"/>
                <a:ext cx="79056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530280" y="5086440"/>
                <a:ext cx="4665600" cy="15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___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___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2630520" y="5424480"/>
                <a:ext cx="89676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4344840" y="5418000"/>
                <a:ext cx="58104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2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96720" y="1398600"/>
          <a:ext cx="8232480" cy="2487240"/>
        </p:xfrm>
        <a:graphic>
          <a:graphicData uri="http://schemas.openxmlformats.org/drawingml/2006/table">
            <a:tbl>
              <a:tblPr/>
              <a:tblGrid>
                <a:gridCol w="2357280"/>
                <a:gridCol w="5875200"/>
              </a:tblGrid>
              <a:tr h="124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24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392040" y="1692360"/>
            <a:ext cx="232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Ter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65520" y="1393920"/>
            <a:ext cx="584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parts separated by a plus or a minus sig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1520" y="2962440"/>
            <a:ext cx="232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Const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44640" y="2895480"/>
            <a:ext cx="584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a term without a vari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2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9.  Name the coefficient of           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316480" y="674640"/>
                <a:ext cx="134640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3594240" y="1436760"/>
                <a:ext cx="52704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0" y="2598840"/>
            <a:ext cx="21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10.  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757520" y="2482920"/>
                <a:ext cx="161604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3389400" y="2620800"/>
            <a:ext cx="21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4302000" y="2505240"/>
                <a:ext cx="130176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y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5602320" y="264312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like or unlik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13000" y="3825720"/>
            <a:ext cx="181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LIK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1203480"/>
            <a:ext cx="91440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63, 3 – 1 #1-18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65, 3 – 2 #1-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#22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 SKELTON</cp:lastModifiedBy>
  <dcterms:modified xsi:type="dcterms:W3CDTF">2004-09-06T02:39:06Z</dcterms:modified>
  <cp:revision>54</cp:revision>
  <dc:subject/>
  <dc:title>Slide 1</dc:title>
</cp:coreProperties>
</file>